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D326-CCE2-4A91-9BC6-248669D5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E45-7C69-401A-B8AB-BA3023DD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A67-426C-49DD-B46D-298929D2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7F09-F522-4B7A-8BB7-10A78560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071-C023-4CD4-B7A9-FC58043C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8FC5-DADE-41FC-88FC-DC3DD531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AB4-224E-4493-BB91-5A6C75F0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040-A98B-476C-A825-F8117C25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AA4-E2D2-4E4B-8473-49E85D47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E4F-D55A-4EBA-BEF9-4A7421B6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378E-2EB9-4F8B-AB52-D63D20DB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55AF-973F-40C8-BEBE-07606FAE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8A6A-D8E9-4F57-A0A8-CD1DC0111DF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د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وحدود الاستفادة من النسب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53FE-7286-458E-A405-C2FB62668820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879480"/>
            <a:ext cx="7772760" cy="69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2421000"/>
            <a:ext cx="369720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رارات شراء أو بيع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ربحية والسي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3747960"/>
            <a:ext cx="273672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ارباح المحققة (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EPS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ي الرب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3718080"/>
            <a:ext cx="2521080" cy="20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عائد الحقيقي لل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بلغ الموز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ة السوق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716280"/>
            <a:ext cx="2592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5300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5720" y="4970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0CD-964F-4BF8-8383-E22E794422B0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809640"/>
            <a:ext cx="7772760" cy="78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دائنون والبن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514600"/>
            <a:ext cx="44654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مساعدة على منح الائتمان من عدم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930480"/>
            <a:ext cx="7488360" cy="223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سب القروض الى حقوق المساهم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تدا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خز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دين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AAA-C184-47E5-9365-DF1F325168E9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985680"/>
            <a:ext cx="7772760" cy="716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دارة المنشأ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16320"/>
            <a:ext cx="7775280" cy="367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نصيب السهم من الأر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العائد على حقوق المل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قروض الى حقوق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رأس ال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اص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338A-0AA8-4957-BB3A-5895BD35B83E}" type="slidenum">
              <a:t>4</a:t>
            </a:fld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275840"/>
            <a:ext cx="7772760" cy="71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احص الضري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900520"/>
            <a:ext cx="8001000" cy="2328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سترشاد بالنسب المالية للمساعدة على الاطمئنان الى صحة 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ص الرواتب ومقارنتها باجمالي الدخل ومقارنتها مع السنة الساب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B0BE-46BC-4393-AD2F-737FB22A1CBC}" type="slidenum">
              <a:t>5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56960"/>
            <a:ext cx="7772760" cy="74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429000"/>
            <a:ext cx="7848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اعدة في ابداء الرأ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9C9-DF2A-4631-9451-FE499EABCECA}" type="slidenum">
              <a:t>6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915920"/>
            <a:ext cx="777276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خيرا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500280"/>
            <a:ext cx="777528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من النسب المالية في الت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ؤ بنجاح أو ف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D47-5DD0-44E9-A111-E1D55E0242BA}" type="slidenum">
              <a:t>7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907920"/>
            <a:ext cx="7772400" cy="1081080"/>
          </a:xfrm>
          <a:prstGeom prst="downArrowCallout">
            <a:avLst>
              <a:gd name="adj1" fmla="val -177836"/>
              <a:gd name="adj2" fmla="val 179737"/>
              <a:gd name="adj3" fmla="val 16667"/>
              <a:gd name="adj4" fmla="val 6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استفادة من التحليل الم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2205000"/>
            <a:ext cx="7775280" cy="37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سياسات و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بي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حجم المشرو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صناع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طبيعة النسب المالية وتركيب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حلل المال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ستفيدين من التحليل الم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5EA5-D629-4735-9845-8C7E3D314B82}" type="slidenum">
              <a:t>8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57:27Z</dcterms:modified>
  <cp:revision>28</cp:revision>
  <dc:subject/>
  <dc:title>التحليل المالي والائتماني</dc:title>
</cp:coreProperties>
</file>